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A19-D505-4FCF-BA31-9275C830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EACB-D147-4352-9915-22A546985E0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A2D9-76D4-414A-ADB0-EC4EE885435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57600" y="9140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Мастер-класс</a:t>
            </a:r>
            <a:br>
              <a:rPr sz="5400"/>
            </a:b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Компания</a:t>
            </a:r>
            <a:br>
              <a:rPr sz="5400"/>
            </a:b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«</a:t>
            </a:r>
            <a:r>
              <a:rPr b="0" lang="en-US" sz="5400" spc="-1" strike="noStrike">
                <a:solidFill>
                  <a:srgbClr val="4d4d4d"/>
                </a:solidFill>
                <a:latin typeface="Microsoft Sans Serif"/>
              </a:rPr>
              <a:t>Creative</a:t>
            </a: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»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3962520" y="4876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хова Любовь Павловна, учитель географии МАОУ «Средняя общеобразовательная школа №30» г.Вологда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380880" y="5943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.04.2025г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Задание: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Предложите </a:t>
            </a: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к можно больше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способов использования сапога в походных условиях не по прямому назначению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895480"/>
            <a:ext cx="7162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Собирать грибы и ягоды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Носить воду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Обороняться от хищников (бросать)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Раздувать костёр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Ловить рыбу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Надев на руки, пробираться сквозь заросли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Пометить место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Verdana"/>
                <a:ea typeface="굴림"/>
              </a:rPr>
              <a:t>Использовать как термос и т.д.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758960" y="2249640"/>
            <a:ext cx="53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Возможные ответы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143000" y="5410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0623"/>
                </a:solidFill>
                <a:latin typeface="Arial"/>
              </a:rPr>
              <a:t>Только творчество! Только креатив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220356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Рекламу правой и левой палочек «Твикс» видели все.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Фирма по их производству отметила тот факт, что стандартная подача данного продукта уже надоела покупателям.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Компании «</a:t>
            </a:r>
            <a:r>
              <a:rPr b="0" lang="en-US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Creative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» предстоит придумать </a:t>
            </a:r>
            <a:r>
              <a:rPr b="1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все возможные способы </a:t>
            </a:r>
            <a:r>
              <a:rPr b="0" lang="ru-RU" sz="3200" spc="-1" strike="noStrike">
                <a:solidFill>
                  <a:srgbClr val="292929"/>
                </a:solidFill>
                <a:latin typeface="Microsoft Sans Serif"/>
                <a:ea typeface="Calibri"/>
              </a:rPr>
              <a:t>производства палочек так, чтобы они выглядели иначе с точки зрения геометрии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623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Задание 1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78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Microsoft Sans Serif"/>
              </a:rPr>
              <a:t>Система  оценивания </a:t>
            </a:r>
            <a:br>
              <a:rPr sz="3200"/>
            </a:br>
            <a:r>
              <a:rPr b="0" lang="ru-RU" sz="2400" spc="-1" strike="noStrike">
                <a:solidFill>
                  <a:srgbClr val="292929"/>
                </a:solidFill>
                <a:latin typeface="Microsoft Sans Serif"/>
              </a:rPr>
              <a:t>(на основе критериев теста Д.Гилфорда)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878040"/>
          <a:ext cx="8534160" cy="5198760"/>
        </p:xfrm>
        <a:graphic>
          <a:graphicData uri="http://schemas.openxmlformats.org/drawingml/2006/table">
            <a:tbl>
              <a:tblPr/>
              <a:tblGrid>
                <a:gridCol w="2133360"/>
                <a:gridCol w="3124440"/>
                <a:gridCol w="32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Содержание критер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Продуктив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разных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1 балл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групп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(в одну группу помещают сходные идеи 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3 балла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группу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</a:tr>
              <a:tr h="26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Оригиналь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идей, содержащих своеобразные, необычные подходы к проблеме нестандартное употребление элементов, оригинальную структуру ответ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5 баллов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оригинальн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TextBox 5"/>
          <p:cNvSpPr/>
          <p:nvPr/>
        </p:nvSpPr>
        <p:spPr>
          <a:xfrm>
            <a:off x="304920" y="61261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нимание! Оцениваются только осмысленные, реалистичные идеи, имеющие непосредственное отношение к заданию!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39600" y="1447560"/>
            <a:ext cx="7227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Фирма по производству кроссовок столкнулась с воровством на производстве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Компания «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reative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» по заказу данной фирмы должна продумать </a:t>
            </a: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к можно больше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способов кражи кроссовок, чтобы фирма могла их предотвратить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133720" y="457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Задание 2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78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Microsoft Sans Serif"/>
              </a:rPr>
              <a:t>Система  оценивания</a:t>
            </a:r>
            <a:br>
              <a:rPr sz="3200"/>
            </a:br>
            <a:r>
              <a:rPr b="0" lang="ru-RU" sz="2400" spc="-1" strike="noStrike">
                <a:solidFill>
                  <a:srgbClr val="292929"/>
                </a:solidFill>
                <a:latin typeface="Microsoft Sans Serif"/>
              </a:rPr>
              <a:t>(на основе критериев теста Д.Гилфорда)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878040"/>
          <a:ext cx="8534160" cy="5198760"/>
        </p:xfrm>
        <a:graphic>
          <a:graphicData uri="http://schemas.openxmlformats.org/drawingml/2006/table">
            <a:tbl>
              <a:tblPr/>
              <a:tblGrid>
                <a:gridCol w="2133360"/>
                <a:gridCol w="3124440"/>
                <a:gridCol w="32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Содержание критерия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fcaff">
                        <a:alpha val="45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Продуктив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разных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1 балл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групп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(в одну группу помещают сходные идеи 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3 балла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группу иде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5e7fa">
                        <a:alpha val="45000"/>
                      </a:srgbClr>
                    </a:solidFill>
                  </a:tcPr>
                </a:tc>
              </a:tr>
              <a:tr h="26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Оригинальность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Количество идей, содержащих своеобразные, необычные подходы к проблеме нестандартное употребление элементов, оригинальную структуру ответ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5 баллов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Microsoft Sans Serif"/>
                        </a:rPr>
                        <a:t>за каждую оригинальную идею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9cbf5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" name="TextBox 5"/>
          <p:cNvSpPr/>
          <p:nvPr/>
        </p:nvSpPr>
        <p:spPr>
          <a:xfrm>
            <a:off x="304920" y="61261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нимание! Оцениваются только осмысленные, реалистичные идеи, имеющие непосредственное отношение к заданию!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143000" y="5410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0623"/>
                </a:solidFill>
                <a:latin typeface="Arial"/>
              </a:rPr>
              <a:t>Только творчество! Только креатив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Navalniy</cp:lastModifiedBy>
  <dcterms:modified xsi:type="dcterms:W3CDTF">2025-10-25T13:03:01Z</dcterms:modified>
  <cp:revision>179</cp:revision>
  <dc:subject/>
  <dc:title>Name of presentation</dc:title>
</cp:coreProperties>
</file>